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BD92-B350-404B-8953-39ED09A9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02F3-8BD5-47F0-A5DF-30F75800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E53-323D-443C-94AF-0DF43F47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F912-50F0-4B25-B869-A44A85C6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E6D9-71F9-480B-8F4F-3C2D1A98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CA4-9B10-42FF-9A48-50BCF877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2982-7F31-443C-9D3F-4BB226FF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A31-52FB-491D-87E9-7391F15B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B564-C897-4272-9157-17652696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D177-7FFF-4551-9D33-623583BB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39AA-EE91-4893-9C79-46DC1108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CD4-5105-4151-8EB0-7A487C6D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2904-0C32-431C-AC4A-F3FDDFAA8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ur  1  words 15-2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 /   lesson /  hears /  2  gifts  one  student (f) /  10 bread rolls  /buys/  bathroo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ישה  </a:t>
            </a: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קונה</a:t>
            </a: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 </a:t>
            </a:r>
            <a:br>
              <a:rPr sz="8000"/>
            </a:b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KONA</a:t>
            </a:r>
            <a:r>
              <a:rPr b="1" lang="he-IL" sz="4800" spc="-1" strike="noStrike">
                <a:solidFill>
                  <a:srgbClr val="99cc00"/>
                </a:solidFill>
                <a:latin typeface="Arial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9817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333399"/>
                </a:solidFill>
                <a:latin typeface="Arial"/>
              </a:rPr>
              <a:t>שירות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RUTI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2916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838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חדשו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38098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שיעו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51055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עברי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333399"/>
                </a:solidFill>
                <a:latin typeface="Arial"/>
              </a:rPr>
              <a:t>שיעו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31147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 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9999"/>
                </a:solidFill>
                <a:latin typeface="Arial"/>
              </a:rPr>
              <a:t>שתי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e-IL" sz="6600" spc="-1" strike="noStrike">
                <a:solidFill>
                  <a:srgbClr val="333399"/>
                </a:solidFill>
                <a:latin typeface="Arial"/>
              </a:rPr>
              <a:t>מתנו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876920" y="3809880"/>
            <a:ext cx="2438280" cy="1870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52480" y="3352680"/>
            <a:ext cx="2438640" cy="1870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__ __    __ __ 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333399"/>
                </a:solidFill>
                <a:latin typeface="Arial"/>
              </a:rPr>
              <a:t>תלמיד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e-IL" sz="6600" spc="-1" strike="noStrike">
                <a:solidFill>
                  <a:srgbClr val="009999"/>
                </a:solidFill>
                <a:latin typeface="Arial"/>
              </a:rPr>
              <a:t>אח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257800" y="27432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   __ __ __ __ __ __ 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9999"/>
                </a:solidFill>
                <a:latin typeface="Arial"/>
              </a:rPr>
              <a:t>עשר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7200" spc="-1" strike="noStrike">
                <a:solidFill>
                  <a:srgbClr val="333399"/>
                </a:solidFill>
                <a:latin typeface="Arial"/>
              </a:rPr>
              <a:t>לחמניות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59436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יש __ __ __ __  </a:t>
            </a:r>
            <a:r>
              <a:rPr b="0" lang="he-IL" sz="5400" spc="-1" strike="noStrike">
                <a:solidFill>
                  <a:srgbClr val="333399"/>
                </a:solidFill>
                <a:latin typeface="Arial"/>
              </a:rPr>
              <a:t>לחמניות</a:t>
            </a:r>
            <a:r>
              <a:rPr b="0" lang="he-IL" sz="5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99cc00"/>
                </a:solidFill>
                <a:latin typeface="Arial"/>
              </a:rPr>
              <a:t>קונ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343400" y="3352680"/>
            <a:ext cx="4286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9600" spc="-1" strike="noStrike">
                <a:solidFill>
                  <a:srgbClr val="000000"/>
                </a:solidFill>
                <a:latin typeface="Arial"/>
              </a:rPr>
              <a:t>חדשות</a:t>
            </a:r>
            <a:r>
              <a:rPr b="1" lang="he-IL" sz="9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6880" y="2138400"/>
            <a:ext cx="38102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__ __ 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333399"/>
                </a:solidFill>
                <a:latin typeface="Arial"/>
              </a:rPr>
              <a:t>שירותי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3600" y="2438280"/>
            <a:ext cx="2916360" cy="3324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שיעור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51055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333399"/>
                </a:solidFill>
                <a:latin typeface="Arial"/>
              </a:rPr>
              <a:t>שיעו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בעברי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1147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333399"/>
                </a:solidFill>
                <a:latin typeface="Arial"/>
              </a:rPr>
              <a:t>שיעו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בעברי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5624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he-IL" sz="8800" spc="-1" strike="noStrike">
                <a:solidFill>
                  <a:srgbClr val="009999"/>
                </a:solidFill>
                <a:latin typeface="Arial"/>
              </a:rPr>
              <a:t>שתי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e-IL" sz="8000" spc="-1" strike="noStrike">
                <a:solidFill>
                  <a:srgbClr val="333399"/>
                </a:solidFill>
                <a:latin typeface="Arial"/>
              </a:rPr>
              <a:t>מתנ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724200" cy="2857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81480" y="2666880"/>
            <a:ext cx="320040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333399"/>
                </a:solidFill>
                <a:latin typeface="Arial"/>
              </a:rPr>
              <a:t>תלמיד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e-IL" sz="8000" spc="-1" strike="noStrike">
                <a:solidFill>
                  <a:srgbClr val="009999"/>
                </a:solidFill>
                <a:latin typeface="Arial"/>
              </a:rPr>
              <a:t>אח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9999"/>
                </a:solidFill>
                <a:latin typeface="Arial"/>
              </a:rPr>
              <a:t>עש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8800" spc="-1" strike="noStrike">
                <a:solidFill>
                  <a:srgbClr val="333399"/>
                </a:solidFill>
                <a:latin typeface="Arial"/>
              </a:rPr>
              <a:t>לחמניות</a:t>
            </a:r>
            <a:r>
              <a:rPr b="0" lang="he-IL" sz="8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9436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יש     </a:t>
            </a:r>
            <a:r>
              <a:rPr b="0" lang="he-IL" sz="8000" spc="-1" strike="noStrike">
                <a:solidFill>
                  <a:srgbClr val="99cc00"/>
                </a:solidFill>
                <a:latin typeface="Arial"/>
              </a:rPr>
              <a:t>קונ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e-IL" sz="5400" spc="-1" strike="noStrike">
                <a:solidFill>
                  <a:srgbClr val="333399"/>
                </a:solidFill>
                <a:latin typeface="Arial"/>
              </a:rPr>
              <a:t>לחמניות</a:t>
            </a:r>
            <a:r>
              <a:rPr b="0" lang="he-IL" sz="5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KONE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3435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9:35:40Z</dcterms:created>
  <dc:creator>Preferred Customer</dc:creator>
  <dc:description/>
  <dc:language>en-US</dc:language>
  <cp:lastModifiedBy>aschlezinger</cp:lastModifiedBy>
  <dcterms:modified xsi:type="dcterms:W3CDTF">2011-01-17T18:54:51Z</dcterms:modified>
  <cp:revision>2</cp:revision>
  <dc:subject/>
  <dc:title>Shiur  1  words 15-22 </dc:title>
</cp:coreProperties>
</file>